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12217"/>
        <c:axId val="24138338"/>
      </c:barChart>
      <c:catAx>
        <c:axId val="66312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38338"/>
        <c:crosses val="autoZero"/>
        <c:auto val="1"/>
        <c:lblAlgn val="ctr"/>
        <c:lblOffset val="100"/>
        <c:noMultiLvlLbl val="0"/>
      </c:catAx>
      <c:valAx>
        <c:axId val="24138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2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25B-037F-482D-917D-E6E1A4F8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37F-5E95-431E-A481-0A8F673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03B-350B-4314-9E52-C40867AB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AF1-CA53-4115-98FF-BDBFCDB6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E86-106F-482B-B289-CDF7794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CE4-EC97-4B00-875B-24C6A346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1AA-8F5E-4ACC-9D44-8450E67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C09-2CF4-4C83-BD86-41C853F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62A-DD4C-426F-91BC-83C1CCD7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2C4-3AAB-4CAF-9431-DF508BB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C1B-BFD3-4B7E-990B-2648DE06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1ED-7783-4509-8DE3-D76F15EC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9C4F3-751C-4061-B036-DEC12B717B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